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9E6-B4DC-466B-B39F-94C01707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C64-4EEB-4E1F-95F4-5D26EF6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077-7777-4243-8E5E-21C54DA8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895-1857-44DA-97D3-6AEEDE7B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ACA0-85DB-446D-A8F7-9EFAD7FF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702-E0DC-47F5-B393-5B3C891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1E64-E384-4E51-89D6-4873208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9CE3-90E3-4C62-8AA3-DCEA129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781C-9A65-4DAB-B0FE-C39B3B4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FC9-58CE-4258-8628-E45363A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A51-BA9D-42E2-A766-4CA0F59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003-DF0C-4486-9C87-5BC0BA8C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C4C-F797-4382-967E-56B32ED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26F-432A-456A-B0C4-6312075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9D9-9AC1-4A9D-BAB7-8EF4CE8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784-3B4A-4DE4-A284-AF18F58C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1115-0307-4879-99A8-2E81DAB1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685-6FDC-4C0B-AAA2-EF64136E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E8D-6914-4BA2-8F85-264327D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BEE-97CA-46F9-BB16-4E356422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9B3-5E74-435C-B20E-CC557BD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3A4-4790-45F3-81BC-4121E48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02A-20EB-4511-AB5A-266634D2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F20-4215-430E-BD12-6187E88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9B1-8688-4CF4-9447-A4C2A971B098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707-9E70-45B5-815A-7A485EBFB04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Тема №6.</a:t>
            </a:r>
            <a:r>
              <a:rPr b="1" lang="uk-UA" sz="4800" spc="-1" strike="noStrike">
                <a:solidFill>
                  <a:srgbClr val="ccecff"/>
                </a:solidFill>
                <a:latin typeface="Arial"/>
              </a:rPr>
              <a:t>Процессуальные акты-документы по уголовным дела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1. Понятие, сущность и признаки процессуальных документов по уголовным дел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2. Виды процессуальных документов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3. Требования, предъявляемые к процессуальным документам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2720" y="1735920"/>
            <a:ext cx="59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Виды процессуальных документов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органам, их принимающи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кругу вопросо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процессуальному порядку принятия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 излож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одержани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ыполняемым задачам (по функциональному признаку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убъектам, правомочным принимать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ремени принятия и длительности действ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юридической силе и 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1.    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Понятие, сущность и признаки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роцессуальных документов по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головным</a:t>
            </a:r>
            <a:r>
              <a:rPr b="0" lang="de-DE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Уголовно-процессуальный закон устанавливает стро­го определенный порядок деятельности органов дозна­ния, предварительного следствия, прокуратуры и суд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Уголовно-процессуальная форма обуславливает письменный характер уголовно судопроизводства наряду с такими принципами, как устность, непосредственность, непрерывность, гласность и т.д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870560"/>
            <a:ext cx="85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Процессуальные действия участников уголовно-процессуальной деятельности, будучи облеченными в форму процессуального документа, получили в теории советского уголовного процесса наименование уголовно-процессуальных акт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Виды процессуальных документов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Уголовно-процессуальные акты делятся на два основных вида: протоколы и процессуальные реш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6035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Лупинская П.А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 «Решение в уголовном судопроизводстве - это облеченный в установленную законом процессуальную форму правовой акт, в котором  прокурор,  орган дознания, следователь и дознаватель в определенном законом порядке дают ответы на возникающие по делу правовые вопросы и выражают властное волеизъявление о действиях, вытекающих из установленных обстоятельств и предписаний закона, направленных на достижение задач уголовного судопроизводств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25606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Документы имеют внешнюю (способ словесно-документального проявления уголовно-процессуального акта: текст документа и стиль его изложения в документе) и внутреннюю форму (части его структуры, располагаемые в строго логической последовательности и не противоречащие друг другу – вводная, описательно-мотивировочная и резолютивная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Требования, предъявляемые к процессуальным документам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Законодатель предъявляет такие требования к содержанию и форме документов, которые дают возможность судить, насколько правильно решено все дело или отдельный правовой вопрос, соответствует ли решение обстоятельствам дела (фактическому основанию) и правовым нормам (юридическому основанию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29714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В документе, выражающем решение, должны быть отражены все черты и свойства, присущие решению как правовому акту, характеризующие законность и обоснованность реш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05:47:24Z</dcterms:created>
  <dc:creator>Пользователь</dc:creator>
  <dc:description/>
  <dc:language>en-US</dc:language>
  <cp:lastModifiedBy>Microsoft Office</cp:lastModifiedBy>
  <dcterms:modified xsi:type="dcterms:W3CDTF">2021-10-08T06:28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